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3D90-83BE-4720-8B3D-75BBD3CA8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2DA5-023B-471E-ADED-171D653721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EA1-67A3-4DCC-942B-4398FA98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DBF-A163-4ADD-9818-8F48C90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1A6-F12A-4BB4-9685-ACEE8B25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8F8-F90D-4AE3-93C0-A63E29B9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1DFB-2F19-4E24-A67C-48593613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157B-B703-46A0-B89B-F7043ED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92F-C83B-4E0A-B97B-6B2E0EC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7847-A038-4DCC-8F3D-963873A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A659-BB2D-4DB7-9B69-24C4B565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58D5-5259-4E9F-AE11-886DB51D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F8C1-9C65-463F-8D7E-41CCEA6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25C-EA3F-4749-B520-2CED55B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334-C922-4418-B5C7-CBF37D6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F65B-D711-42CC-B2A3-D9C1C48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621-5BAF-42BB-ADE3-8A3F3981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2ABD-2CBB-4F4D-9F1A-D98E1E2B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DC54-D657-42F5-857C-90B3272E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3556-EC82-43D1-BF2E-8D18BFD2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310C-27A8-4846-988C-E8B2DF2B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9DBB-046A-4F44-B994-30627F76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5280-C3C1-48A7-A9F5-DDCEAA12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A455-69C6-4F17-A4EF-E12B8213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F1C-92C3-4922-92A2-DBF41B4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D772-3829-4132-B036-1247EAA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A9E7-C910-4CEE-A6E9-BB12980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0F96-A831-4738-B05A-180E1FC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DAD2-5F2A-4936-8067-5778F90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E00B-5DDA-4BC6-91B9-920717D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B57F-F03D-4EE6-B1F4-DF5FC2E4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5FEA-E7D6-4251-AF7C-99E8FA69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6002-37FF-4DF0-975B-4BA368E4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1665-ADC6-4193-8FDB-C880455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9AE0-5F83-47EE-AB5D-7B26DBAE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D0F-B6DB-4CEF-816E-AF854E9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9931-712C-49DA-B1DF-6CFAF67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B736-4291-4E0E-A666-AC7AAB58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0F31-6535-44E0-B7D9-476482C1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B0FB-D966-4DEA-9D13-7EA6931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09DB-B62A-4AA5-9D4E-3334B208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6F12-D028-4826-8892-EB7C08B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CB07-7D7A-49A4-8880-04EBD2C1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4C94-0EA9-49EE-A84C-9A796AA6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A375-7CC2-4D4E-A837-D1ECF0D2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1BB6E-8F2D-4DC8-8C35-2B324E4E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B6A-59FE-4113-9DCF-52D501AF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E756-F5C1-4A46-BEE8-36A0733A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7B197-BFFB-461B-9FA2-2EEF06E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2B0BB-648B-47EA-97AA-81889049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5D38-E032-4576-BA4E-453DA3E6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EC5D-ECA1-46F5-BB60-2D88FDF9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6F729-B8F9-4D4D-8DED-0DA946DD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DBF9-F79B-4CCB-B3E2-DBF60E7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7CD7-240A-4C31-B00D-0EC9365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090D-C5ED-49FA-9814-A664693E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1A8A-3AE9-427E-A90D-151745EF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622-4079-41FC-9952-44689AB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336B-219A-415F-8E2C-4F3EED18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06AB-EA5E-4168-AB18-4B8AEDEA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141D5-9542-40BE-A705-31A9B119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C393E-1115-4533-895E-667898D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2112-D8C4-4D6B-AB73-5313810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C70E-6087-41AC-A1D0-B8A12A31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7335-2187-4443-9B60-986CD7F9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FCBC-D250-40C0-B7D5-10B6798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1123-23A4-47C5-B37E-FFE6E7E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1132-32B7-453E-8DA2-EC61045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A2B-77CE-410B-8D16-1EBF798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47A7-F772-4568-ACA4-836DBD3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9A2FC-E17A-403D-ADF9-5966CF3D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B80A-D647-4FAD-A854-93370A4E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72BF-6512-484F-BE10-E7293126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0AD9C-0262-4FAD-B73E-880CFA06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22A2-4166-40B7-BA49-E330D9DD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799B-1998-442F-BC56-11C2FD22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EB39-85B7-4AD1-A304-A246A1B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8DBF-CDB2-4830-932C-C23220B1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FCD5-29F4-409C-886B-1FB7425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012-B83B-490C-8D02-CA662611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5A586-4DA0-42EC-8CAF-6B1B2AF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BC37-450D-4E65-A580-5F3D5E2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33A6-84F8-4FC7-AC5B-4BD8BE22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EB97-E9C1-4DA4-A448-A4EF9FCA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B482-4F4D-47C4-BF05-8D6B4AC3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8EA-8150-4B2F-AE87-51766BA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F9BD-7567-48A9-9636-E4EAF6D07AF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566-6F86-4132-BF0D-1FF1EF6961D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C04-DD25-403F-B5E0-D3AAE8D3453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B265-8214-4917-856D-E3828A6FA6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E8A5-FD5E-4538-A50C-6914838E01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B15-CFB4-46C9-A59A-F16DB998AFF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9FD-1012-46CC-ABE4-F84B09A9373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1.cvsd.k12.pa.us/course/view.php?id=302" TargetMode="External"/><Relationship Id="rId2" Type="http://schemas.openxmlformats.org/officeDocument/2006/relationships/hyperlink" Target="http://podcasts.cvsd.k12.pa.us/weblog/tom_owsinski/" TargetMode="External"/><Relationship Id="rId3" Type="http://schemas.openxmlformats.org/officeDocument/2006/relationships/hyperlink" Target="https://spreadsheets.google.com/ccc?key=0AszEkmQ4sBKFdFhrbjF2a1UzTXpNZXFpdWt2WTRGNHc&amp;hl=en" TargetMode="External"/><Relationship Id="rId4" Type="http://schemas.openxmlformats.org/officeDocument/2006/relationships/hyperlink" Target="http://www.smartmusic.com/" TargetMode="External"/><Relationship Id="rId5" Type="http://schemas.openxmlformats.org/officeDocument/2006/relationships/hyperlink" Target="file:///../../All%20Users/Desktop/iTunes.lnk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undzabound.com/" TargetMode="External"/><Relationship Id="rId2" Type="http://schemas.openxmlformats.org/officeDocument/2006/relationships/hyperlink" Target="http://www.partnersinrhyme.com/" TargetMode="External"/><Relationship Id="rId3" Type="http://schemas.openxmlformats.org/officeDocument/2006/relationships/hyperlink" Target="http://www.royaltyfreemusic.com/free.html" TargetMode="External"/><Relationship Id="rId4" Type="http://schemas.openxmlformats.org/officeDocument/2006/relationships/hyperlink" Target="http://freeplaymusic.com/" TargetMode="External"/><Relationship Id="rId5" Type="http://schemas.openxmlformats.org/officeDocument/2006/relationships/hyperlink" Target="http://www.harryfox.com/index.jsp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elkin.com/IWCatProductPage.process?Product_Id=277661" TargetMode="External"/><Relationship Id="rId2" Type="http://schemas.openxmlformats.org/officeDocument/2006/relationships/hyperlink" Target="http://www.belkin.com/IWCatProductPage.process?Product_Id=277661" TargetMode="External"/><Relationship Id="rId3" Type="http://schemas.openxmlformats.org/officeDocument/2006/relationships/hyperlink" Target="http://www.roland.com/products/en/R-09HR/index.html" TargetMode="External"/><Relationship Id="rId4" Type="http://schemas.openxmlformats.org/officeDocument/2006/relationships/hyperlink" Target="http://www.bluemic.com/consumeraudio/microphones.html" TargetMode="External"/><Relationship Id="rId5" Type="http://schemas.openxmlformats.org/officeDocument/2006/relationships/hyperlink" Target="http://www.zoom.co.jp/english/products/h2/" TargetMode="External"/><Relationship Id="rId6" Type="http://schemas.openxmlformats.org/officeDocument/2006/relationships/hyperlink" Target="http://www.zoom.co.jp/english/products/h2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audacity.sourceforge.net/help/faq?s=install&amp;item=lame-mp3" TargetMode="External"/><Relationship Id="rId3" Type="http://schemas.openxmlformats.org/officeDocument/2006/relationships/hyperlink" Target="http://www.digidesign.com/index.cfm?navid=507&amp;langid=1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dcastalley.com/index.php" TargetMode="External"/><Relationship Id="rId2" Type="http://schemas.openxmlformats.org/officeDocument/2006/relationships/hyperlink" Target="http://epnweb.or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actical Consideration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Middle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in the Elementary School Band Ro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seful Websi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sbandirecto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amstudio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icalmusiccity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cFirth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ood-Ear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Woodwind Fingering Gui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ronome On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 and Answer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 Owsinsk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estoga Valley Middle Sch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m_owsinski@cvsd.k12.pa.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97-1294 x161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ckground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bout the CVMS band progra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y do I use technology in the band roo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hance student learn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et them where they li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fficienc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otiva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ech Tools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Mood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odcas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Google Do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Smartmus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Ipod/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martphone Ap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 Consider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1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rpo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acher or Student designe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pyrigh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oundzabou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Partners in Rhym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Royalty Free Music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Freeplaymusic.co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HarryFox.co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– mechanical righ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reating A Podcast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a pl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scrip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plo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rd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Ipod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mart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Edirol R-09H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Blue USB micropho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Zoom  H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_x000b_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udacit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with </a:t>
            </a: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Lam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rageban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Pro Too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odcasts as a Resource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un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Podcast Alle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Educational Podcast Networ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martmusic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ractice tool (Band, Orchestra, Choru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thod Book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ercis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and, orchestra and chorus arrangemen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ustom fi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ound edi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eractive gradebo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4:49Z</dcterms:created>
  <dc:creator>tom_owsinski</dc:creator>
  <dc:description/>
  <dc:language>en-US</dc:language>
  <cp:lastModifiedBy>tom_owsinski</cp:lastModifiedBy>
  <dcterms:modified xsi:type="dcterms:W3CDTF">2009-11-17T15:24:28Z</dcterms:modified>
  <cp:revision>47</cp:revision>
  <dc:subject/>
  <dc:title>Technology from the Middle School Band Room</dc:title>
</cp:coreProperties>
</file>